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C146-1754-4AAC-A661-CAAAC5058208}"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E696-EFCC-40EC-BBC2-B8BADF6BB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3E8A-653A-43A0-A9AB-1323887817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F4468-7464-4576-8E92-1F215447F8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C412-EB6B-4D99-91C1-78695602C3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49320" y="347760"/>
            <a:ext cx="5113440" cy="3835440"/>
          </a:xfrm>
          <a:prstGeom prst="rect">
            <a:avLst/>
          </a:prstGeom>
          <a:ln w="0">
            <a:noFill/>
          </a:ln>
        </p:spPr>
      </p:sp>
      <p:sp>
        <p:nvSpPr>
          <p:cNvPr id="30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3DA8584-3E4D-443F-B333-0AFAA8A534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4BCC-EBE7-47E3-B7B7-A1D26430BD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16A91-10AA-4C8F-AB95-2EA60A173E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C942-7A70-411F-A52A-27BAFF194A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D0AB-CDFE-432C-A6E3-463B8CDE7A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B02AF-5727-4D2E-81BD-5F48CCB9D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5A25F-6CEA-49CD-959A-C5D52F4B9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4C6A9-84DC-446B-BB69-1E19ACF67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82A63-EC26-446A-8A08-90D9607BF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12EAF5-BCB6-4CD6-A7B9-A0A2F208A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EFA45-ABED-4461-B23D-FE73C11A1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0BE0D-D0EF-46ED-8DDB-38FAA06FF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C902D-0E2B-4213-B8F6-B96C79E34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0A886-21F6-45C9-982D-4D0C06906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414E7-1B3D-4BE9-BF3C-B8ADE9C50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5F286-E5FE-4927-81BC-3C0BDD1DA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64738-6655-45C2-8EE6-956DD161D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ABC41-7B70-43FA-88DE-F4E667259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63CFC-7D8F-405C-9089-E898A2E42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22EB1-FAD7-48A1-AB52-1E3F04FFE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7AEAD7-FBE0-4210-90C2-60751DBC1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F485DC-D405-416C-8B4B-E0F94A41D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9591C-C7D5-4821-BE78-23E1B88C1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07621-1B20-4FAB-80A1-0F3370F6C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D79E0-790E-436D-9C49-D0FEC251F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C54E2-9C13-4865-854F-0E50E6B99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BE794-CBD3-45BB-BD51-26EC1B6B7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96EF7-BF33-4F4E-AA82-83D2AB615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6780E-FA57-4755-B7B2-A254E7CFE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900C6-170F-4FA6-874B-82DA31693A76}"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2043-6D53-4D97-8B12-A33ACB916A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59076-FEB1-40F7-B8CE-5604D45D39C5}"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DD72-49B5-465E-80C9-F44A93737D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EFD5-7097-4223-A6A6-27B45263C8E1}"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B366-54B0-40FE-BDB5-012900E33E5E}"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Ethiopian Highlands Syste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 Agency for International Develop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January 30,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0824-754E-41AA-BC83-83BD05146F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Cereal-based Farming Systems in the Ethiopian Highland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ject Design Workshop, Addis Ababa, 30 January-2 February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01" name="Picture 2" descr=""/>
          <p:cNvPicPr/>
          <p:nvPr/>
        </p:nvPicPr>
        <p:blipFill>
          <a:blip r:embed="rId1"/>
          <a:stretch/>
        </p:blipFill>
        <p:spPr>
          <a:xfrm>
            <a:off x="5987880" y="228600"/>
            <a:ext cx="2840040" cy="573120"/>
          </a:xfrm>
          <a:prstGeom prst="rect">
            <a:avLst/>
          </a:prstGeom>
          <a:ln w="0">
            <a:noFill/>
          </a:ln>
        </p:spPr>
      </p:pic>
      <p:pic>
        <p:nvPicPr>
          <p:cNvPr id="302" name="Content Placeholder 4" descr=""/>
          <p:cNvPicPr/>
          <p:nvPr/>
        </p:nvPicPr>
        <p:blipFill>
          <a:blip r:embed="rId2"/>
          <a:stretch/>
        </p:blipFill>
        <p:spPr>
          <a:xfrm>
            <a:off x="371520" y="914400"/>
            <a:ext cx="8394480" cy="571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44600" y="1225440"/>
            <a:ext cx="839448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080" y="1887480"/>
              <a:ext cx="2165400" cy="6555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800" y="4633920"/>
              <a:ext cx="2162160" cy="65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89480" y="3220920"/>
              <a:ext cx="1189080" cy="849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50760"/>
            <a:ext cx="7029360" cy="561528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4" y="0"/>
                </a:lnTo>
                <a:lnTo>
                  <a:pt x="21600" y="10800"/>
                </a:lnTo>
                <a:lnTo>
                  <a:pt x="17554"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82F9-5FE8-4824-8723-4B1A33F489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Requir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6640" y="914400"/>
            <a:ext cx="4449600" cy="582768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98" name="Picture 2" descr=""/>
          <p:cNvPicPr/>
          <p:nvPr/>
        </p:nvPicPr>
        <p:blipFill>
          <a:blip r:embed="rId1"/>
          <a:stretch/>
        </p:blipFill>
        <p:spPr>
          <a:xfrm>
            <a:off x="5987880" y="228600"/>
            <a:ext cx="2840040" cy="573120"/>
          </a:xfrm>
          <a:prstGeom prst="rect">
            <a:avLst/>
          </a:prstGeom>
          <a:ln w="0">
            <a:noFill/>
          </a:ln>
        </p:spPr>
      </p:pic>
      <p:pic>
        <p:nvPicPr>
          <p:cNvPr id="299" name="Content Placeholder 4" descr=""/>
          <p:cNvPicPr/>
          <p:nvPr/>
        </p:nvPicPr>
        <p:blipFill>
          <a:blip r:embed="rId2"/>
          <a:stretch/>
        </p:blipFill>
        <p:spPr>
          <a:xfrm>
            <a:off x="371520" y="914400"/>
            <a:ext cx="8394480" cy="57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BFS Research Team 1</cp:lastModifiedBy>
  <cp:lastPrinted>2011-09-08T14:59:21Z</cp:lastPrinted>
  <dcterms:modified xsi:type="dcterms:W3CDTF">2012-01-30T11:02:34Z</dcterms:modified>
  <cp:revision>241</cp:revision>
  <dc:subject/>
  <dc:title>PowerPoint Presentation</dc:title>
</cp:coreProperties>
</file>